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450-89A2-446F-A42A-6B9C039A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EE6-CC3B-4520-8850-057E35B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688-51C8-4D9A-B95F-BB1CAB04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353-F1D0-4660-A431-EA3EFDF9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58A-1AF1-426B-B55C-C787F1A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8DF-BBDF-4F72-943B-4A74654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D8D-AFDD-4E9D-BD80-B5C4CECA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C7BE-A8B2-438C-BED3-9EE92FDA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3DA-C8AE-4E80-9460-AB9408CF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8F94-B19A-479C-B7BF-1D32EF54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4CA4-F6E1-46BB-B93D-DED163C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6AF-2BB2-48F6-A67C-487EF25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5E8E-7A4C-44CD-9382-078A9745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Calisto MT"/>
              </a:rPr>
              <a:t>Classroom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MG_1478"/>
          <p:cNvPicPr/>
          <p:nvPr/>
        </p:nvPicPr>
        <p:blipFill>
          <a:blip r:embed="rId1"/>
          <a:stretch/>
        </p:blipFill>
        <p:spPr>
          <a:xfrm>
            <a:off x="2308320" y="1371600"/>
            <a:ext cx="452592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Cj03967420000[1]"/>
          <p:cNvPicPr/>
          <p:nvPr/>
        </p:nvPicPr>
        <p:blipFill>
          <a:blip r:embed="rId1"/>
          <a:stretch/>
        </p:blipFill>
        <p:spPr>
          <a:xfrm>
            <a:off x="3749760" y="609480"/>
            <a:ext cx="3870360" cy="3511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882000" y="49528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iénten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Cj01047420000[1]"/>
          <p:cNvPicPr/>
          <p:nvPr/>
        </p:nvPicPr>
        <p:blipFill>
          <a:blip r:embed="rId1"/>
          <a:stretch/>
        </p:blipFill>
        <p:spPr>
          <a:xfrm>
            <a:off x="457200" y="1143000"/>
            <a:ext cx="4311720" cy="456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3267360" y="1143000"/>
            <a:ext cx="556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ilencio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Pj03997980000[1]"/>
          <p:cNvPicPr/>
          <p:nvPr/>
        </p:nvPicPr>
        <p:blipFill>
          <a:blip r:embed="rId1"/>
          <a:stretch/>
        </p:blipFill>
        <p:spPr>
          <a:xfrm>
            <a:off x="457200" y="533520"/>
            <a:ext cx="2495520" cy="3120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895480" y="114300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ow do you say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In Span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985320" y="4419720"/>
            <a:ext cx="79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¿Cómo se dice. . . en españ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¿Puedo ir al ba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Pj03995500000[1]"/>
          <p:cNvPicPr/>
          <p:nvPr/>
        </p:nvPicPr>
        <p:blipFill>
          <a:blip r:embed="rId1"/>
          <a:stretch/>
        </p:blipFill>
        <p:spPr>
          <a:xfrm>
            <a:off x="1224000" y="2297160"/>
            <a:ext cx="2504880" cy="31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Pj03995490000[1]"/>
          <p:cNvPicPr/>
          <p:nvPr/>
        </p:nvPicPr>
        <p:blipFill>
          <a:blip r:embed="rId2"/>
          <a:stretch/>
        </p:blipFill>
        <p:spPr>
          <a:xfrm>
            <a:off x="5415120" y="22971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MCj01108490000[1]"/>
          <p:cNvPicPr/>
          <p:nvPr/>
        </p:nvPicPr>
        <p:blipFill>
          <a:blip r:embed="rId1"/>
          <a:stretch/>
        </p:blipFill>
        <p:spPr>
          <a:xfrm>
            <a:off x="457200" y="1295280"/>
            <a:ext cx="4343400" cy="4310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978440" y="2475000"/>
            <a:ext cx="42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No compr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124960" y="3809880"/>
            <a:ext cx="35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No entien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I don’t kn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No sé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I have a ques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Tengo una pregun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elp me, plea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Ayúdame, por fav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MPj03091750000[1]"/>
          <p:cNvPicPr/>
          <p:nvPr/>
        </p:nvPicPr>
        <p:blipFill>
          <a:blip r:embed="rId1"/>
          <a:stretch/>
        </p:blipFill>
        <p:spPr>
          <a:xfrm>
            <a:off x="380880" y="990720"/>
            <a:ext cx="4343400" cy="4278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952880" y="167652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How do you sp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or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029200" y="342900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sto MT"/>
              </a:rPr>
              <a:t>¿Cómo se escribe. .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Repeat, plea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Repite, por fav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Cj03290170000[1]"/>
          <p:cNvPicPr/>
          <p:nvPr/>
        </p:nvPicPr>
        <p:blipFill>
          <a:blip r:embed="rId1"/>
          <a:stretch/>
        </p:blipFill>
        <p:spPr>
          <a:xfrm>
            <a:off x="2590920" y="1295280"/>
            <a:ext cx="3352680" cy="2936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318280" y="255096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752480" y="4876920"/>
            <a:ext cx="67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Abren el libro, por fav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What does. . .m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¿Qué quiere decir. . .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MPj03999310000[1]"/>
          <p:cNvPicPr/>
          <p:nvPr/>
        </p:nvPicPr>
        <p:blipFill>
          <a:blip r:embed="rId1"/>
          <a:stretch/>
        </p:blipFill>
        <p:spPr>
          <a:xfrm>
            <a:off x="5181480" y="914400"/>
            <a:ext cx="3479760" cy="5218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-482760" y="1981080"/>
            <a:ext cx="614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¿Puedo tomar agua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por fav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MCj01048380000[1]"/>
          <p:cNvPicPr/>
          <p:nvPr/>
        </p:nvPicPr>
        <p:blipFill>
          <a:blip r:embed="rId1"/>
          <a:stretch/>
        </p:blipFill>
        <p:spPr>
          <a:xfrm>
            <a:off x="762120" y="1143000"/>
            <a:ext cx="739116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4061840000[1]"/>
          <p:cNvPicPr/>
          <p:nvPr/>
        </p:nvPicPr>
        <p:blipFill>
          <a:blip r:embed="rId1"/>
          <a:stretch/>
        </p:blipFill>
        <p:spPr>
          <a:xfrm>
            <a:off x="2362320" y="838080"/>
            <a:ext cx="3990960" cy="4038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108800" y="525780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Cierran el libro, por 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Cj02509220000[1]"/>
          <p:cNvPicPr/>
          <p:nvPr/>
        </p:nvPicPr>
        <p:blipFill>
          <a:blip r:embed="rId1"/>
          <a:stretch/>
        </p:blipFill>
        <p:spPr>
          <a:xfrm>
            <a:off x="2438280" y="457200"/>
            <a:ext cx="4143600" cy="3772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2209680" y="4800600"/>
            <a:ext cx="534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sto MT"/>
              </a:rPr>
              <a:t>Escribe, por fav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MCHM00379_0000[1]"/>
          <p:cNvPicPr/>
          <p:nvPr/>
        </p:nvPicPr>
        <p:blipFill>
          <a:blip r:embed="rId1"/>
          <a:stretch/>
        </p:blipFill>
        <p:spPr>
          <a:xfrm>
            <a:off x="3116160" y="1465200"/>
            <a:ext cx="291168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901880" y="5549760"/>
            <a:ext cx="598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Escuchen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MPj04157860000[1]"/>
          <p:cNvPicPr/>
          <p:nvPr/>
        </p:nvPicPr>
        <p:blipFill>
          <a:blip r:embed="rId1"/>
          <a:stretch/>
        </p:blipFill>
        <p:spPr>
          <a:xfrm>
            <a:off x="2057400" y="175248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27320" y="457200"/>
            <a:ext cx="863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sto MT"/>
              </a:rPr>
              <a:t>Hablen en español, por fav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MCPE02250_0000[1]"/>
          <p:cNvPicPr/>
          <p:nvPr/>
        </p:nvPicPr>
        <p:blipFill>
          <a:blip r:embed="rId1"/>
          <a:stretch/>
        </p:blipFill>
        <p:spPr>
          <a:xfrm>
            <a:off x="3886200" y="1219320"/>
            <a:ext cx="4516560" cy="3968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656640" y="190512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Leen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MCj03981250000[1]"/>
          <p:cNvPicPr/>
          <p:nvPr/>
        </p:nvPicPr>
        <p:blipFill>
          <a:blip r:embed="rId1"/>
          <a:stretch/>
        </p:blipFill>
        <p:spPr>
          <a:xfrm>
            <a:off x="609480" y="1295280"/>
            <a:ext cx="375444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4807080" y="2743200"/>
            <a:ext cx="43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Levanten la man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Cj01989790000[1]"/>
          <p:cNvPicPr/>
          <p:nvPr/>
        </p:nvPicPr>
        <p:blipFill>
          <a:blip r:embed="rId1"/>
          <a:stretch/>
        </p:blipFill>
        <p:spPr>
          <a:xfrm>
            <a:off x="2362320" y="1371600"/>
            <a:ext cx="4332240" cy="314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991440" y="5029200"/>
            <a:ext cx="779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sto MT"/>
              </a:rPr>
              <a:t>Saquen una hoja de pap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3T21:34:09Z</dcterms:created>
  <dc:creator>Jeff</dc:creator>
  <dc:description/>
  <dc:language>en-US</dc:language>
  <cp:lastModifiedBy>Maple Lake</cp:lastModifiedBy>
  <dcterms:modified xsi:type="dcterms:W3CDTF">2008-09-03T16:08:23Z</dcterms:modified>
  <cp:revision>3</cp:revision>
  <dc:subject/>
  <dc:title>Classroom Expressions</dc:title>
</cp:coreProperties>
</file>